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B5F-2860-4C85-B68C-D02ED98E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1E3-C708-4D8A-A83D-1F06F381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9FB-40C9-4F00-857A-ADDBDA28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C03-C380-4534-8E99-320BFD23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2CF9-BDAE-4C77-BA53-0916DE59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4BCE-0F3E-4B0C-B9B0-8AF71205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2480-926F-4210-B8F2-71533F7F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7341-3F5A-4EF9-B8A1-D9CEDE82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5017-5E71-498C-B7CB-361C20DC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A31F-F6DC-4BCB-9B2B-0228511E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7882-EDC0-4DAE-A82A-DDF7C451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B69-6C96-440A-9468-84C17AD7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75F2-AD7D-4CF7-9498-B921FC6F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8668-ADDB-43F2-ABEB-E7FAE834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48C7-BBF5-4A6D-8823-6B9D8869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3A3C-4182-484A-8F0B-19AB7D2F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1601-77F4-4B15-AA74-A41B2678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F7B04-65DA-43B8-BB8A-C63A68AF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DB7E2-3B90-4D15-8D3C-B66F1656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E6E93-6621-4BFE-8176-1720D360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97DF5-906C-4355-9350-7ADCF006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F4DF-5959-47A7-84E7-6B2CBC2D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15B-2137-4762-AB1C-DE7E6478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B5C25-1C39-46CF-B180-45A1AD6C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E392-F28A-499B-85EC-D25BE151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21973-3F70-4ECC-AA73-E8F0726E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32E34-1CB4-400F-A025-42AFD3BD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EAF69-E97C-4BA2-A0BA-D19A7E5A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E6EEA-FC99-4265-8EDF-8E9A52E7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692BC-CA17-4484-8059-1A7DCC4C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BEAC3-BC6A-438E-B581-54E95971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290AA-6C43-4E72-A560-80609EEC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28E3E-C8CE-4A47-A8CC-F50365B5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EBA-BFF2-49E7-BBD0-4B1B16F9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5641B-8D50-42A9-A27E-E95172F0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6A325-3D2C-408F-AB62-A9785056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EAC94-C1D3-4735-BEC7-29DFA738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95FFD-284B-4024-B16B-DACB814D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C87E0-1B90-42F8-83D1-588A4498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1216E-2E23-446E-B81F-493B7039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9B5BD-F6A4-4ED9-BA8D-1B29658B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1B3EF-4414-4137-AC86-1EE3DB9E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C6F8F-10E7-45FC-B126-0C75371B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33C-69F2-4020-ACAE-032342E2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A2B-C9C4-49F6-945F-C2C32F38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26F-9422-4678-943F-B017ACB7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2DF-DCE7-426E-A9C8-B2844D2E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7A8-5942-4C2F-946E-4FAEABB1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FC45-0C74-4F4A-8EC0-1E0142A9050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AE8C-27BC-48F3-AD57-5F2023E5806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9C73-C867-4ABC-B9F2-62A80B91EBE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CBA7-EE9E-433A-8FED-6F34ACB0858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JpLMvgUXe8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iYqFXmVAF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kZBHWzgbFA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6202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2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rles Lindbergh completes the first transatlantic solo flight by airpl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2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October 1929, the U.S. stock market crashes.  This leads to the Great Depres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youtube.com/watch?v=RJpLMvgUXe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3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33 – Franklin D. Roosevelt becomes the U.S. presid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s. Roosevelt’s New Deal program begins.  The hope is that it will counter the Great Depres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zi leader Adolph Hitler comes to power in German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3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ocial Security Act is enac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3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WII begins when Germany invades Pol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rst commercial television broadcast in the U.S. is ai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he American Dream:  Pursuit of a Promis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ee central assump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merica as a New Ed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and of beauty, bounty, and unlimited promi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any people sought great wealth and pleasure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idea can be seen in F. Scott Fitzgerald’s novel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he Great Gatsb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Belief in Progr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mericans believed in progress—life was just going to keep getting bette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great sense of optimism was felt by most American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riumph of the Individu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dividuals are independent and self-reliant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 Crack in the World:  Breakdown of Beliefs and Tradi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ld War I and the crash of the stock market 10 years later damaged the American Drea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twar writers became skeptical of the New England Puritan trad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enter of American literary life began to shift away from New Engl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re and more modernist writers were from the South, the Midwest, or the We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arxism and the Challenge to Free Enterpris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arl Marx – his socialist beliefs had been the backbone of the Russian Revolution in 191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flicted with the American system of capitalism and free enterpri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Americans believed that certain elements of Marxism would wor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Freud and the Unconscious Min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gmund Freud – founder of psychoanaly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ed the working of the unconscious mi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lieved that our actions are controlled by our subconscio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control over subconscious = no free wi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d to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eam of consciousnes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– a literary technique in which chronology is abandoned in an effort to imitate the moment-by-moment thoughts of a charac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t Home and Abroad:  The Jazz Ag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hibition – the Constitution was amended to prohibit the manufacture and sale of alcohol, which was seen as a central evil (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endmen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youtube.com/watch?v=OiYqFXmVAF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d to the bootlegger, the speak-easy, the cocktail, the flapper, new rhythms of jazz, and the gangs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med the Jazz Age by F. Scott Fitzgeral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men won the right to vote (1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endmen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atriates – American writers and artists who abandoned the U.S. for life in France following WW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nstantia"/>
              </a:rPr>
              <a:t>Social and Political Events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t Home and Abroa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atriates – Americans living abro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erican writers and artists who abandoned the U.S. for life in France following WW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eaper and better to live in Par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re exotic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Filled with grace and luxur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No need to go to a cellar for a drink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Grace Under Pressure:  The New American Her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rnest Hemingway – most influential post-World War I wri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famous for his literary sty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Reduced the “flamboyance” of literary langue to bare bones – no fluff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roduced a new American her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 man of action, a warrior, a tough competito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Has a code of honor, courage, enduranc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oroughly disillusioned (Hemingway’s outlook was one of disillusionment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Modern Voices in Poetry:  A Dazzling Period of Experiment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tish influence on American poetry was g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erican poets began to experi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lored artistic life of Euro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gan to explore new ways to see and represent rea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ymbolism and imag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Voices of American Characte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ther American poets rejected modernist tre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ferred to say what they wanted to say in plain American spee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gional diversity of American life and charac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obert Frost – one of the greatest poets of this grou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he Harlem Renaissance:  Voices of the African American Experienc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rly 1920s – black poets began to focus on contributions of African American culture to Ame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etry – based on rhythms of spirituals and jaz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yrics – based on songs known as the bl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ction – based on street talk of the ghet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emost po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ames Weldon Johnson, Claude McKay, Langston Hughes, Countee Cull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ographical center – Harl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iritual center – consciousness of African Americ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he American Dream Revise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dernist era – one of the richest periods in American litera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riters of the period experimented boldly with forms and subject mat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1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nama Canal ope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ld War I, also called the Great War, begins in Europ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ld War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erbian student shot and killed Archduke Franz Ferdinand, heir to the Austro-Hungarian thro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mperor Franz Joseph of Austria-Hungary declares war on Serb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ssia, an ally of Serbia, mobilizes for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rmany mobilizes forces and declares war on Russia, France, and Belgiu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17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.S. enters WW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sident Woodrow Wilson asks Congress for a declaration of war on Imperial Germany on April 6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elective Services Act was passed on May 18.  This gave the federal government power to draft young men for the armed forc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first wave of American soldiers land in France on July 3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erican troops fire the first shots in trench warfare on Oct. 23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1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reaty of Versailles ends the w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peace treaty was signed by German delegates and allies in Versailles on June 28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2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Harlem Renaiss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youtube.com/watch?v=2kZBHWzgbF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ousands of African Americans from the south and the West Indies migrated to Harlem, New Yor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grants sought better economic opportunities, escape from social conditions that were oppressive, and superior educational opportunit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riters of the period included Langston Hughes, Claude McKay, Countee Cullen, and Zora Neale Hurst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sicians included Billie Holiday, Duke Ellington, and Louis Armstro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2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endment prohibited the manufacture, sale, transport, import, or export of alcoholic bevera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braska was the 36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state to ratify the amendment on Jan. 17, 1919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endment became law on Jan. 16, 192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92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1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mendment gave women the right to vo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was passed by Congress on June 4, 1919 and ratified on Aug. 18, 192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00:23:10Z</dcterms:created>
  <dc:creator>pcoles</dc:creator>
  <dc:description/>
  <dc:language>en-US</dc:language>
  <cp:lastModifiedBy>pcoles</cp:lastModifiedBy>
  <dcterms:modified xsi:type="dcterms:W3CDTF">2011-01-12T01:40:03Z</dcterms:modified>
  <cp:revision>40</cp:revision>
  <dc:subject/>
  <dc:title>The Moderns</dc:title>
</cp:coreProperties>
</file>